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4.gif" ContentType="image/gif"/>
  <Override PartName="/ppt/media/image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13.jpeg" ContentType="image/jpeg"/>
  <Override PartName="/ppt/media/image2.gif" ContentType="image/gif"/>
  <Override PartName="/ppt/media/image5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895-88A9-41AD-9023-9D0AE400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E4B-2B45-47F1-9F10-26CD4C91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6FC-D822-4ED9-86F4-06FCD3D4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E01-F651-4235-8A6E-561939F5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41E-B258-4410-8599-00AC0727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CA10-1FCF-42FF-B1B9-5CCEC792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F8F-317A-4560-BBCB-D28215C4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45A-96CB-454F-9815-100AF1DE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199-46CC-4DC8-8AD0-C4F0337B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FA8-55D0-4A00-A560-0BB4DE7A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CB4-6FBB-4222-8A38-439E4863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93D-277F-4C99-A868-90C98352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BC3-C548-4767-B2DA-BF4D203A76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无标题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4280" cy="2971800"/>
          </a:xfrm>
          <a:prstGeom prst="rect">
            <a:avLst/>
          </a:prstGeom>
          <a:ln w="0">
            <a:noFill/>
          </a:ln>
        </p:spPr>
      </p:pic>
      <p:pic>
        <p:nvPicPr>
          <p:cNvPr id="42" name="vvv" descr=""/>
          <p:cNvPicPr/>
          <p:nvPr/>
        </p:nvPicPr>
        <p:blipFill>
          <a:blip r:embed="rId2"/>
          <a:stretch/>
        </p:blipFill>
        <p:spPr>
          <a:xfrm>
            <a:off x="1676520" y="-304920"/>
            <a:ext cx="4754520" cy="3840120"/>
          </a:xfrm>
          <a:prstGeom prst="rect">
            <a:avLst/>
          </a:prstGeom>
          <a:ln w="0">
            <a:noFill/>
          </a:ln>
        </p:spPr>
      </p:pic>
      <p:pic>
        <p:nvPicPr>
          <p:cNvPr id="43" name="ppp" descr=""/>
          <p:cNvPicPr/>
          <p:nvPr/>
        </p:nvPicPr>
        <p:blipFill>
          <a:blip r:embed="rId3"/>
          <a:stretch/>
        </p:blipFill>
        <p:spPr>
          <a:xfrm>
            <a:off x="2362320" y="1143000"/>
            <a:ext cx="3657600" cy="26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0960" y="611496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Chiller"/>
              </a:rPr>
              <a:t>By Tian Fengch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未命名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88620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613960" y="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Verdana"/>
              </a:rPr>
              <a:t>Who i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96252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21566400">
            <a:off x="1981080" y="5943600"/>
            <a:ext cx="62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Verdana"/>
                <a:ea typeface="PMingLiU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211932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990720" y="53352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Listen to the passage to find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Narrow"/>
              </a:rPr>
              <a:t>answers to thes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0160" y="23623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1.What scientific work is Einstein famous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40920" y="4267080"/>
            <a:ext cx="66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Cooper Black"/>
              </a:rPr>
              <a:t>2.Where did he spend the last part of his 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82480" y="335268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Scientific research/new discoveries in phys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0600" y="502920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oper Black"/>
              </a:rPr>
              <a:t>At a university in the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3960" y="380880"/>
            <a:ext cx="523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tails about 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880" y="933480"/>
            <a:ext cx="6473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or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u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ork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ctor’s deg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cientific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he got for his new discove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ved to the U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89480" y="1066680"/>
            <a:ext cx="42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Much 14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879;in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9120" y="152388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On April 18</a:t>
            </a:r>
            <a:r>
              <a:rPr b="1" i="1" lang="en-US" sz="2400" spc="-1" strike="noStrike" baseline="30000">
                <a:solidFill>
                  <a:srgbClr val="0066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,1955;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8480" y="19810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6080" y="243828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First as a teacher,then in a governmen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7480" y="297180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3600" y="350532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Between 1905and 19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71600" y="3927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2160" y="43848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Recei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worldwide p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45600" y="537516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n 1933 with his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82960" y="2936880"/>
            <a:ext cx="37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University of Zuri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4880" y="198108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(in the Federal Institute of Techn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albert2" descr=""/>
          <p:cNvPicPr/>
          <p:nvPr/>
        </p:nvPicPr>
        <p:blipFill>
          <a:blip r:embed="rId1"/>
          <a:stretch/>
        </p:blipFill>
        <p:spPr>
          <a:xfrm>
            <a:off x="7350120" y="5334120"/>
            <a:ext cx="1584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15640" y="84240"/>
            <a:ext cx="43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</a:rPr>
              <a:t>True or false exerc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080" y="57456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Albert Einstein was curious about everything around him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e was yo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6120" y="141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.He had learned everything all by him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4320" y="2022480"/>
            <a:ext cx="816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He did not like to go to school and he found it hard to get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with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7200" y="2936880"/>
            <a:ext cx="78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The period between 1905 and 1915 was a very importan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for he received higher education at univer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15760" y="38512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5.Einstein cared little for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8280" y="438480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6.Once somebody saw him using a bank note as a bookm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000" y="4800600"/>
            <a:ext cx="79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7.Einstein also spent a lit of time working for human righ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prog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3760" y="563868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8.Einstein loved music very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804600">
            <a:off x="533160" y="5331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804600">
            <a:off x="609120" y="1980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804600">
            <a:off x="609120" y="38095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804600">
            <a:off x="609120" y="472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804600">
            <a:off x="609120" y="56383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5440" y="13716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440" y="28954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5440" y="434340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010280" y="5376960"/>
          <a:ext cx="190512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5376960"/>
                    <a:ext cx="190512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89120" y="30492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ine05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857480" cy="15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4600" y="196056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be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50336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1295280"/>
              <a:gd name="textAreaBottom" fmla="*/ 12736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2"/>
                  <a:pt x="10800" y="1163"/>
                </a:cubicBezTo>
                <a:lnTo>
                  <a:pt x="10800" y="10275"/>
                </a:lnTo>
                <a:cubicBezTo>
                  <a:pt x="10800" y="10857"/>
                  <a:pt x="5400" y="11438"/>
                  <a:pt x="0" y="11438"/>
                </a:cubicBezTo>
                <a:cubicBezTo>
                  <a:pt x="5400" y="11438"/>
                  <a:pt x="10800" y="12020"/>
                  <a:pt x="10800" y="12601"/>
                </a:cubicBezTo>
                <a:lnTo>
                  <a:pt x="10800" y="20437"/>
                </a:lnTo>
                <a:cubicBezTo>
                  <a:pt x="10800" y="2101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04680" y="12952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do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高兴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/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甘心做…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01800" y="2417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th sth(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对…感到满足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8480" y="1655640"/>
            <a:ext cx="49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e is content to live in the country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036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om is content to eat simpl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98760" y="2819520"/>
            <a:ext cx="54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No one is content with what he h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920" y="320040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Don’t be content with small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800" y="36370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Cf. John </a:t>
            </a:r>
            <a:r>
              <a:rPr b="0" lang="en-US" sz="2400" spc="-1" strike="noStrike" u="sng">
                <a:solidFill>
                  <a:srgbClr val="990099"/>
                </a:solidFill>
                <a:uFillTx/>
                <a:latin typeface="Times New Roman"/>
              </a:rPr>
              <a:t>contented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 himself with two glasses of beer for each m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0680" y="48211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lea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551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1440" y="436392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通，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4320" y="52783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导致某种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73280" y="4821120"/>
            <a:ext cx="30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ll roads lead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69320" y="558324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accident led to three de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50680" y="5964120"/>
            <a:ext cx="35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Hard work leads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ZW_008" descr=""/>
          <p:cNvPicPr/>
          <p:nvPr/>
        </p:nvPicPr>
        <p:blipFill>
          <a:blip r:embed="rId2"/>
          <a:stretch/>
        </p:blipFill>
        <p:spPr>
          <a:xfrm>
            <a:off x="6934320" y="510552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ee8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6160" y="803160"/>
            <a:ext cx="28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live a…life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过着…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0320" y="126036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The peasants in the past lived a hard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0480" y="175248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Poor Tom lives a dog’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6320" y="2251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9760" y="274320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Liu Hulan died a heroic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0840" y="31240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he dreamt a sound d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5960" y="365760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uch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位于句首，表示“这”或“这些”时，谓语动词要倒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720" y="430848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is my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9760" y="4842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as the situation we were f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4440" y="54514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were his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55960" y="601992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uch are the results we have g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ine23" descr=""/>
          <p:cNvPicPr/>
          <p:nvPr/>
        </p:nvPicPr>
        <p:blipFill>
          <a:blip r:embed="rId1"/>
          <a:stretch/>
        </p:blipFill>
        <p:spPr>
          <a:xfrm>
            <a:off x="1752480" y="430200"/>
            <a:ext cx="60199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1-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ooo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34:19Z</dcterms:created>
  <dc:creator>Terence</dc:creator>
  <dc:description/>
  <dc:language>en-US</dc:language>
  <cp:lastModifiedBy>Terence</cp:lastModifiedBy>
  <dcterms:modified xsi:type="dcterms:W3CDTF">2002-03-01T16:48:23Z</dcterms:modified>
  <cp:revision>20</cp:revision>
  <dc:subject/>
  <dc:title>PowerPoint 演示文稿</dc:title>
</cp:coreProperties>
</file>